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F95-148C-418C-A264-43BAB941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E03-5042-438B-A6D0-07C69AA6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DB7-073C-4C0A-A33B-BD2C0143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63F-051B-4EA1-A28D-C835DF35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25C-B37D-4C98-9549-91FF369F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FB2-EC99-4CD0-89B8-FC485145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B17-E365-4304-9389-DBB20676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287-D9D3-4A4D-8DCB-21FD475D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2A5-8C61-4E94-9107-8C7F3EFB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50C-BCB2-4939-BA01-DF092769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767-2392-4D4E-93B2-3ED669A9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114-BDAE-48CC-8D42-BC4DFCC9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79E9-96FD-4F82-B143-2A92CDEB7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am, szent vagy, / Uram, szent vagy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talmas vagy, / hatalmas vagy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méltó, / Te vagy méltó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cséretre, / a dicséretre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ed járok, / Veled járok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ád tekintek, / Rád tekintek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követlek, / és követlek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den napon, / minden nap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Lányok: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gmentő Isten vagy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gyelmed végtelen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alkodsz örökké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ég és Föld felett.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alfa, omega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ezdet és Vég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a Messiás, 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gmentő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át, ki vé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ú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j dalt zengek és áldo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rályom, Ki méltó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k Rá nézek, Őt váro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borulva imád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838080"/>
            <a:ext cx="0" cy="518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a Megváltóm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az életem Tiéd.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2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ányok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k Te vagy az Ú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a nagy Király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denható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 kősziklánk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Immánuel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talmas Iste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ékesség Ura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gfeszített Bárány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ú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j dalt zengek és áldo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rályom, Ki méltó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k Rá nézek, Őt váro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borulva imád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533520"/>
            <a:ext cx="0" cy="601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Lányok:</a:t>
            </a:r>
            <a:br>
              <a:rPr sz="3600"/>
            </a:b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gmentő Isten vagy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gyelmed végtelen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alkodsz örökké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ég és Föld felett.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alfa, omega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ezdet és Vég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a Messiás, 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gmentő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át, ki vé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ú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j dalt zengek és áldo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rályom, Ki méltó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k Rá nézek, Őt váro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borulva imád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533520"/>
            <a:ext cx="0" cy="5790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a Megváltóm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az életem Tié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296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am, szent vagy, / Uram, szent vagy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talmas vagy, / hatalmas vagy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méltó, / Te vagy méltó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cséretre, / a dicséretre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ed járok, / Veled járok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ád tekintek, / Rád tekintek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követlek, / és követlek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den napon, / minden nap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ányok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k Te vagy az Ú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a nagy Király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denható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 kősziklánk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Immánuel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talmas Iste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ékesség Ura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gfeszített Bárány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ú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j dalt zengek és áldo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rályom, Ki méltó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k Rá nézek, Őt váro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borulva imád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838080"/>
            <a:ext cx="0" cy="518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Lányok:</a:t>
            </a:r>
            <a:br>
              <a:rPr sz="32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gmentő Isten vagy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gyelmed végtelen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alkodsz örökké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ég és Föld felett.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alfa, omega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ezdet és Vég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a Messiás, 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gmentő,</a:t>
            </a:r>
            <a:br>
              <a:rPr sz="3600"/>
            </a:br>
            <a:r>
              <a:rPr b="1" lang="hu-H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át, ki vé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ú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j dalt zengek és áldo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rályom, Ki méltó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k Rá nézek, Őt váro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borulva imád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838080"/>
            <a:ext cx="0" cy="518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a Megváltóm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az életem Tié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ányok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k Te vagy az Ú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s a nagy Király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denható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 kősziklánk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 vagy Immánuel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talmas Iste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ékesség Ura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gfeszített Bárány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ú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j dalt zengek és áldo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rályom, Ki méltó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k Rá nézek, Őt váro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borulva imád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838080"/>
            <a:ext cx="0" cy="518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12:34:44Z</dcterms:created>
  <dc:creator>Baptista Gyülekezet</dc:creator>
  <dc:description/>
  <dc:language>en-US</dc:language>
  <cp:lastModifiedBy>Baptista Gyülekezet</cp:lastModifiedBy>
  <dcterms:modified xsi:type="dcterms:W3CDTF">2006-09-10T13:25:25Z</dcterms:modified>
  <cp:revision>14</cp:revision>
  <dc:subject/>
  <dc:title>Uram, szent vagy, / Uram, szent vagy, hatalmas vagy, / hatalmas vagy, Te vagy méltó, / Te vagy méltó a dicséretre, / a dicséretre. Veled járok, / Veled járok, Rád tekintek, / Rád tekintek, és követlek, / és követlek minden napon, / minden napon.</dc:title>
</cp:coreProperties>
</file>